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6998-191A-4269-81E3-160B78C081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1DDB-D847-43E2-9F2E-5027A7FEE5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FC42-8BFC-470E-9142-BDA575FCDE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3560-32EA-46C7-9327-F6340F67AA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1071-9181-4DF2-B432-A006FFA0CD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21BD-E4E2-4B40-8394-344C66E10B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3F91-DB0E-4790-BDD6-E5F430F0DC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A221-5478-4C5B-906B-53DEFB44B3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2056-EED4-4300-82EC-652D11783B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8D69-AFF0-42A0-8337-95C5A9C9A7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26F3-63D5-4DE9-A8AA-7D9EB9CDA4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92C-F4F5-4693-B3D2-0DC94DDA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9FC-816A-4631-9BB6-F82768DB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723-1781-4493-950F-F3F45CAE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23A-44C6-4A18-8F1B-1F5C6DEB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B79B-B846-43D3-BA3B-8DE73460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83C3-CB83-4FF6-BCB5-2FC48088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B636-35C4-4E63-9912-4B2006E7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3F90-187E-4A7A-B725-FCAAEFB4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1683-E6ED-421D-8589-86FF7390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AEB2-9B53-4B82-AE8D-A1B68071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8342-4AFB-468A-9698-BC5590A6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025-F544-4605-B636-262DB71E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B591-8D35-4E93-87D8-6EF7C42E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105E-43BE-4AF3-A194-41B6AC28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7F1A-3688-4663-8FF8-281D3105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0269-044E-46AC-9E41-AA92F29C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2496-6CB7-4A53-8CCD-6731BBFF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73B-46AD-4796-953C-59F08FAE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87D3-B703-4CB8-8FE0-B8E80550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9AA-E8CC-40D2-AB0C-46B3CBE1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359-CC23-484A-A80E-962F5634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C66-0050-4025-ADC2-50500D7A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AE9-23B1-4A11-91AE-28747C72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09E-BB46-4198-A833-1073D22D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2501-03C4-4374-897B-BAE56B10F3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A99B-4F23-409C-99A6-6A7A3EE544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03788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66"/>
                </a:solidFill>
                <a:latin typeface="Times New Roman"/>
              </a:rPr>
              <a:t>The role of ‘self’ in anthropological 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jaak van der Ge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Group and plenary discussion about own research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cribe th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tance re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iscove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per ins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Concluding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tiv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tual ‘exploitation’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endipity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 / 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[examples from medical anthropolog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25560" y="0"/>
            <a:ext cx="8219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hared experience is basis of understanding: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es distance between researcher and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ads to new disco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duces deeper insights (cognitively, emotion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Personal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aling / c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iting for transport and trav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s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1: In a nursing h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: helping in car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overy: not eating / 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ight: “a good day if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man, R. (2005) Verplegen bij versterven: De meerwaarde van intensief participeren [Nursing and ’versterven’: The surplus of intensive participation]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WALO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: 20-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Limitations of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stricted range of activities / aspects of life (poverty, sickness, religion, sex, hunger, fear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lf-hearted (observing at the same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tuit (existential meaning of experi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2: Motherhood and childcare in Domin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ualit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wn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meich, A. (1994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he blessings of motherhood: Health, pregnancy and child care in Dominica.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sterdam: Het Spinhu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3: Having canc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tical vs horizontal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e-person b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us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un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jhof, G. (2001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iekenwerk. Een kleine sociologie van alledaags ziekenl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[Sick work: A small sociology of everyday sick life].Amsterdam: Aks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3:45:31Z</dcterms:created>
  <dc:creator>Sjaak</dc:creator>
  <dc:description/>
  <dc:language>en-US</dc:language>
  <cp:lastModifiedBy>Owner</cp:lastModifiedBy>
  <dcterms:modified xsi:type="dcterms:W3CDTF">2013-11-18T13:57:47Z</dcterms:modified>
  <cp:revision>5</cp:revision>
  <dc:subject/>
  <dc:title>The ‘philosophy’ of anthropological fieldwork</dc:title>
</cp:coreProperties>
</file>